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4.wmf" ContentType="image/x-wmf"/>
  <Override PartName="/ppt/media/explode.wav" ContentType="audio/x-wav"/>
  <Override PartName="/ppt/media/image11.wmf" ContentType="image/x-wmf"/>
  <Override PartName="/ppt/media/image22.wmf" ContentType="image/x-wmf"/>
  <Override PartName="/ppt/media/image21.wmf" ContentType="image/x-wmf"/>
  <Override PartName="/ppt/media/type.wav" ContentType="audio/x-wav"/>
  <Override PartName="/ppt/media/image20.png" ContentType="image/png"/>
  <Override PartName="/ppt/media/image18.wmf" ContentType="image/x-wmf"/>
  <Override PartName="/ppt/media/image2.jpeg" ContentType="image/jpeg"/>
  <Override PartName="/ppt/media/hammer.wav" ContentType="audio/x-wav"/>
  <Override PartName="/ppt/media/image19.jpeg" ContentType="image/jpeg"/>
  <Override PartName="/ppt/media/image31.jpeg" ContentType="image/jpeg"/>
  <Override PartName="/ppt/media/image10.wmf" ContentType="image/x-wmf"/>
  <Override PartName="/ppt/media/image35.wmf" ContentType="image/x-wmf"/>
  <Override PartName="/ppt/media/image14.wmf" ContentType="image/x-wmf"/>
  <Override PartName="/ppt/media/image6.png" ContentType="image/png"/>
  <Override PartName="/ppt/media/image9.wmf" ContentType="image/x-wmf"/>
  <Override PartName="/ppt/media/image34.wmf" ContentType="image/x-wmf"/>
  <Override PartName="/ppt/media/image26.jpeg" ContentType="image/jpeg"/>
  <Override PartName="/ppt/media/image17.png" ContentType="image/png"/>
  <Override PartName="/ppt/media/image32.jpeg" ContentType="image/jpeg"/>
  <Override PartName="/ppt/media/image30.jpeg" ContentType="image/jpeg"/>
  <Override PartName="/ppt/media/image37.wmf" ContentType="image/x-wmf"/>
  <Override PartName="/ppt/media/image7.wmf" ContentType="image/x-wmf"/>
  <Override PartName="/ppt/media/image8.png" ContentType="image/png"/>
  <Override PartName="/ppt/media/image36.wmf" ContentType="image/x-wmf"/>
  <Override PartName="/ppt/media/image16.png" ContentType="image/png"/>
  <Override PartName="/ppt/media/image5.png" ContentType="image/png"/>
  <Override PartName="/ppt/media/whoosh.wav" ContentType="audio/x-wav"/>
  <Override PartName="/ppt/media/image28.jpeg" ContentType="image/jpeg"/>
  <Override PartName="/ppt/media/image13.wmf" ContentType="image/x-wmf"/>
  <Override PartName="/ppt/media/image27.jpeg" ContentType="image/jpeg"/>
  <Override PartName="/ppt/media/image4.png" ContentType="image/png"/>
  <Override PartName="/ppt/media/image29.jpeg" ContentType="image/jpeg"/>
  <Override PartName="/ppt/media/image33.wmf" ContentType="image/x-wmf"/>
  <Override PartName="/ppt/media/image3.wmf" ContentType="image/x-wmf"/>
  <Override PartName="/ppt/media/image12.png" ContentType="image/png"/>
  <Override PartName="/ppt/media/image23.jpeg" ContentType="image/jpeg"/>
  <Override PartName="/ppt/media/image25.wmf" ContentType="image/x-wmf"/>
  <Override PartName="/ppt/media/image1.png" ContentType="image/pn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6521-9BE9-4E07-B053-EF68D84F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B94A-E2CD-4CA1-B692-BA652094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CF7A0-5A4B-4596-B04B-52DCFB69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EC25B-EC0D-4839-8C38-A784E513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84B40-2375-44BA-B809-DDC24330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E1333-7909-4E22-80EE-DD583350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60FD2-A789-4B90-A2AF-F83A9F72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6A485-E8D8-4545-9BF3-88A060CF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98C9F-89D9-4F62-B32D-91B9454E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9B5C6-D452-4736-AB54-27D8843F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F929A-E4DB-40FD-A374-57F804C6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1B249-694B-4F1C-8490-C46F7C07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15F3-AE9C-45DB-978D-2A2B98BC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40BC2-4B9B-4D44-ABB4-30ADC016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2563A-4C55-42E1-AE23-25132A68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42A42-BCEA-4082-AA5F-7FA9C693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CD612-F952-4AB1-8277-84839496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1EF62-B150-417A-A8F8-6EB52F4C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51F3E-B85D-40EF-BF37-7420FA2A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C2AFD-3358-40BB-8921-2A7B1AE5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391D1-BD1F-46B4-9AE6-59DE070E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64C85-81F0-4167-AC07-FAA7BAE1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20BEC-B580-46CE-BEA2-1449C463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A461-255E-4E3F-B245-AC59B7A6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95235-5612-4C3E-80B5-3267524A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AE3FD-F32B-4374-903F-DDE6B02B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EB434-9681-448F-A199-72950D8B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C30C8-A43E-4831-869F-72122206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7E6EB-3955-4ECD-8B07-D904D965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C4411-60DC-4BFB-9F48-2E6197BF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93734-C54C-4228-B22F-11FADE30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852DC-7BA9-4682-B391-4F35E25D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87560-7ACE-4778-AD3F-42F60AB4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A53F8-0C4C-455A-B24E-46773E11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907C-26AF-459A-BABF-5461935B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523F6-863B-41E1-B750-2B88BED4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9921F-D4F2-4D21-9445-D9998B2B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AC83C-8B93-4EF6-8115-A1F994AD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CAF47-B538-43CD-977B-EE74AE73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0E730-CED8-41F8-9D91-4C435820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73141-DF39-4D55-B86D-400686CB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54660-EC4E-42DA-9A39-17C3FD01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602BD-964C-4365-B24A-2B094834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CEE0D-FFCC-49CA-8C49-F3F8D561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34B91-3126-408C-9E87-45090027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6C05-621D-4438-ADDF-3FCA9D75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B2CA3-4AD8-4839-A3D3-DFF656A7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D13AC-2978-4D0B-84D4-7DE29119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9525E-1505-469A-B642-B85C48DB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D310A-FA0D-4758-A285-C9FCE727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10E25-A2F1-4D4C-89C6-B4E2DC89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F9DD-F2E1-47E8-847D-7307F67D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781C-BF8A-4BE6-9C4F-3FEB720D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4E4F-970D-426E-89D6-1F70EBEF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63EC-2B00-4780-B58A-3B83E3C1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16B0-F729-4FC8-A8EC-C97AA3B6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C816-61B3-462B-8F84-737D24B7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D4A1-E3EC-4F95-90A0-350FC01A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5288-D507-4BBA-A49F-841A43C9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A30C-FE94-4DAF-A33A-51768534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1F39-A688-4819-8C74-3BE8A8B4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3D6E-7BE1-4E5C-904A-86109A18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B0CE9-AC28-4EDF-A913-4CA53D6D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90868-6055-4279-8EDF-7305373E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70CD4-B055-4B3C-8635-61E2C23C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40FE1-7769-43E0-89B2-71BD1426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69D6E-E9AF-4526-8F2B-67F01DF5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DF5A-CB6F-4F50-BFCF-4454D7EF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CB042-28CD-4ED7-BA57-A47E67AC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16062-1FB8-4405-8A55-BD53A44D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3C55F-05E6-4D6F-A542-B5863DE5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8E6A7-32FF-4887-963B-033F29FC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247AD-8865-489E-9739-4679A0FF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10547-44FF-4B8E-823F-CDD7B41E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DB1B0-789A-4BE8-AE1A-699CA829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74F6C-307D-452C-927A-DF9F7680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A9AC0-F9B6-4FBD-B466-4EDECB0E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803DB-19C5-4251-8C4A-FEFFF5B2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103-F8A3-4037-9726-2BD891FE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B1E47-252B-472D-AFD3-8973DB6F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8B19D-F48A-4DC0-96C2-A8B4D03A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1A9C8-8C2F-4E50-AD52-7A6F2BE0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BD55A-0E55-430C-9829-CEF0112C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4B5A8-4AE1-47EE-A996-63A4D88C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3332C-D701-4B31-9E3B-C80E5B4C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EA7BC-412F-476C-B82E-8BEC5F9A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CE022-AD29-42F2-BB2C-864C387F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08AD7-C923-4AED-A012-70B6AA96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A041B-EAAD-4192-AAF3-83805538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D236-688F-45BC-9823-FABDB6AC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2DBC7-BCFF-4955-B7D5-93D64467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50B33-C928-4BEC-A203-F4B0E8B2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22FA6-3F78-44B9-B7C9-9E7672B6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1537E-2690-4E15-94E4-834932C6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A92FA-008C-46F4-AECA-0C0BBAEF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AF5F3-8EB1-46D4-8A45-EB31D306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145CC-8DF6-4DBC-B60E-0CB75E54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E4BE1-44EF-4525-98D9-AF576315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B2E30-B43B-4E26-B1CE-C713C9C2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3C198-A80E-4C90-9CB0-02ADB9DB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C75-A12C-4413-9AD4-12AC6F4B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E583B-0FC6-48D4-B700-6DB6876A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DC247-4431-47E6-95A9-C3339B44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93A6C-92FD-4977-B181-12E56DF1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5B915-D51D-40BF-896D-7FE30F23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D2FD2-864E-47A2-8E7E-0D3A761A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9513E-4F7D-4018-857D-2DA6693B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201F5-5F4B-4DE7-9307-1D131A1E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57F56-20DB-44C3-B787-A89AB243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D4EB6-EF9A-479C-B242-A0B56467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90F3D-6907-422C-AE95-A73EFE1B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51EF-2844-4E14-A52B-D151DD94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882DD-332A-4EDB-85C7-5C8D91AA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4091A-F5D5-462B-B86A-4EA9AA1A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1A458-3756-450E-9F26-A75479D3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71CA3-49DC-49FB-86DC-2B8E6106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56B97-C32C-4088-AF78-65B6E5AD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1A12F-6395-4493-A6A4-A9591710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C5598-89C2-41BE-81E6-4DAD61E3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449D5-2E86-44E1-ABFC-045FA0E4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4AC3C-ED58-421F-9E60-9DB504F9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27A49-9B51-4935-9759-04D7AAA3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39C-64CB-4DC8-B122-EFFEA507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0DADB-5561-4C4F-ABD8-61578F47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F5149-FAAF-4617-8E17-40DEBB43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2D033-B934-4E11-85D8-1EB8DB9C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F0540-702C-4ECD-AD9E-61EB8BD8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FBB95-75EF-4742-8385-D7EE1B58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0A3EA-195B-47EB-878F-0DB47A4B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ABE4D-8D7D-4ADD-98F0-E2A70D90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7B31C-85C2-4C19-9971-0CC9980E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D251A-2575-44FB-94BD-946E4E6A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24132-A08D-4FB7-864F-1B1D82FC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4916-9B0E-4409-AB99-3ACA7C99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90ADB-6B0A-4F92-A9A2-FBBD1C74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1789C-0F0D-41B2-A403-F0AC8FA4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EB0B0-E1C5-4E46-91BF-FA10FE8C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22A0C-DF54-490D-B0FF-19D29C7A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F5B09-CB05-4690-BB8E-9EC2E70F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045F0-3FB8-43D9-A93C-B6B6E175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23342-8A11-4BD9-9459-D83CCD5F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CB324-D449-4BF3-9478-9E932B1E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A0B0E-34CF-4365-87C9-831552A4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58811-8748-4F2E-B405-B80A5D0A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9237-4EFC-4F65-B562-5C0977247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70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72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76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dt" idx="2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ftr" idx="2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FCDE-2BE3-40D0-B8E5-CA8D58ABA7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CBAF-98AD-4E79-9B66-5CFCA72842F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ftr" idx="3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E9F8-E4E1-4446-AA41-0338A0E4B6F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A1E1-20DD-430C-87CC-D62E1A993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DB7E-DB69-4111-9D83-49E5AB97F9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0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0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DBF5-4C5A-4392-A7E7-D3DE3733A7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0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3826-303E-434C-9012-49FEB144A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6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B1B0-E22A-4368-AAAF-13B95D6A1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8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AC95-604A-46FB-AE6A-88517C6B6E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75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927C-BCA7-4623-91B8-6B43925BD0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23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25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6F0F-E6E5-4F22-8E18-2802CD132D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cokidsonline.com/pub/eco_info/topics/frogs/chain_reaction/assets/flash/chain_reaction.swf" TargetMode="External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discover.edventures.com/images/termlib/s/silt/support.gif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en.wikipedia.org/wiki/Clay" TargetMode="External"/><Relationship Id="rId5" Type="http://schemas.openxmlformats.org/officeDocument/2006/relationships/hyperlink" Target="http://en.wikipedia.org/wiki/Sand" TargetMode="External"/><Relationship Id="rId6" Type="http://schemas.openxmlformats.org/officeDocument/2006/relationships/hyperlink" Target="http://www.kozmicdreams.com/images/Home%20and%20Collections/Rocks/three%20unusual%20patterned%20rocks.jpg" TargetMode="External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4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4.wmf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3886200"/>
            <a:ext cx="6934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 Grade Science Review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4648320" y="5334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5638680" y="5638680"/>
            <a:ext cx="25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rolina Fle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656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914400" y="83808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Screw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3" name="" descr="Screw"/>
          <p:cNvPicPr/>
          <p:nvPr/>
        </p:nvPicPr>
        <p:blipFill>
          <a:blip r:embed="rId1"/>
          <a:stretch/>
        </p:blipFill>
        <p:spPr>
          <a:xfrm>
            <a:off x="4038480" y="2362320"/>
            <a:ext cx="1233720" cy="246672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1676520" y="48769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 inclined plane wrapped around an ax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2"/>
          <a:stretch/>
        </p:blipFill>
        <p:spPr>
          <a:xfrm>
            <a:off x="6781680" y="2590920"/>
            <a:ext cx="1149480" cy="172692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2381040" cy="33721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838080" y="83808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Wheel &amp; Axl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8" name="" descr="Wheel and Axle"/>
          <p:cNvPicPr/>
          <p:nvPr/>
        </p:nvPicPr>
        <p:blipFill>
          <a:blip r:embed="rId1"/>
          <a:stretch/>
        </p:blipFill>
        <p:spPr>
          <a:xfrm>
            <a:off x="3429000" y="2514600"/>
            <a:ext cx="1914480" cy="191448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1143000" y="48769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eel fastened to an axle that turn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1627200" cy="211608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3"/>
          <a:stretch/>
        </p:blipFill>
        <p:spPr>
          <a:xfrm>
            <a:off x="6095880" y="2514600"/>
            <a:ext cx="2362320" cy="20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eec94"/>
                </a:solidFill>
                <a:latin typeface="Times New Roman"/>
              </a:rPr>
              <a:t>Food Chains</a:t>
            </a:r>
            <a:endParaRPr b="1" lang="en-US" sz="117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med" advTm="2000">
    <p:blinds dir="horz"/>
    <p:sndAc>
      <p:stSnd>
        <p:snd r:embed="rId1" name="type.wav"/>
      </p:stSnd>
    </p:sndAc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100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100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00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ducers - pl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sumers-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cc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cc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cc00"/>
                </a:solidFill>
                <a:latin typeface="Times New Roman"/>
              </a:rPr>
              <a:t>Herbivore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eat only pl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cc00"/>
                </a:solidFill>
                <a:latin typeface="Times New Roman"/>
              </a:rPr>
              <a:t>Carnivore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eat only mea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cc00"/>
                </a:solidFill>
                <a:latin typeface="Times New Roman"/>
              </a:rPr>
              <a:t>Omnivore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eat both plant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me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compos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1000">
    <p:blinds dir="horz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omplete the Food Chain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5" name="">
            <a:hlinkClick r:id="rId1"/>
          </p:cNvPr>
          <p:cNvSpPr/>
          <p:nvPr/>
        </p:nvSpPr>
        <p:spPr>
          <a:xfrm>
            <a:off x="2514600" y="2743200"/>
            <a:ext cx="3581280" cy="259092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ck here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>
            <a:hlinkClick r:id="" action="ppaction://hlinkshowjump?jump=nextslide"/>
          </p:cNvPr>
          <p:cNvSpPr/>
          <p:nvPr/>
        </p:nvSpPr>
        <p:spPr>
          <a:xfrm>
            <a:off x="7772400" y="56386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066680" y="1371600"/>
            <a:ext cx="6400800" cy="9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0033cc"/>
                </a:solidFill>
                <a:latin typeface="Tahoma"/>
              </a:rPr>
              <a:t>Soil</a:t>
            </a:r>
            <a:endParaRPr b="0" lang="en-US" sz="25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">
    <p:blinds dir="horz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685800" y="1828800"/>
            <a:ext cx="64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provides the support and nutrients necessary for plant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7162920" y="1371600"/>
            <a:ext cx="1584360" cy="184140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1676520" y="304920"/>
            <a:ext cx="304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99"/>
                </a:solidFill>
                <a:latin typeface="Tahoma"/>
              </a:rPr>
              <a:t>Soil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09480" y="39625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is a 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natural resource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 that should be conser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1600200" cy="159084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5791320" y="58672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Help take care of our Eart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blinds dir="horz"/>
    <p:sndAc>
      <p:stSnd>
        <p:snd r:embed="rId4" name="explode.wav"/>
      </p:stSnd>
    </p:sndAc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3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62120" y="83808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Soil is composed of 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ocks</a:t>
            </a: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, 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ay</a:t>
            </a: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, 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lt</a:t>
            </a: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, 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and</a:t>
            </a: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 and 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humus</a:t>
            </a: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2201760"/>
            <a:ext cx="2133720" cy="165420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5638680" y="3849120"/>
            <a:ext cx="2667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larger than </a:t>
            </a:r>
            <a:r>
              <a:rPr b="0" lang="en-US" sz="1800" spc="-1" strike="noStrike" u="sng">
                <a:solidFill>
                  <a:srgbClr val="65b2ff"/>
                </a:solidFill>
                <a:uFillTx/>
                <a:latin typeface="Tahoma"/>
                <a:hlinkClick r:id="rId4"/>
              </a:rPr>
              <a:t>clay</a:t>
            </a:r>
            <a:r>
              <a:rPr b="0" lang="en-US" sz="1800" spc="-1" strike="noStrike" u="sng">
                <a:solidFill>
                  <a:srgbClr val="0033cc"/>
                </a:solidFill>
                <a:uFillTx/>
                <a:latin typeface="Tahoma"/>
              </a:rPr>
              <a:t> but smaller than a </a:t>
            </a:r>
            <a:r>
              <a:rPr b="0" lang="en-US" sz="1800" spc="-1" strike="noStrike" u="sng">
                <a:solidFill>
                  <a:srgbClr val="65b2ff"/>
                </a:solidFill>
                <a:uFillTx/>
                <a:latin typeface="Tahoma"/>
                <a:hlinkClick r:id="rId5"/>
              </a:rPr>
              <a:t>sa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2438280"/>
            <a:ext cx="1417680" cy="152424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clay-equipment/adrian-330.jpg"/>
          <p:cNvPicPr/>
          <p:nvPr/>
        </p:nvPicPr>
        <p:blipFill>
          <a:blip r:embed="rId8"/>
          <a:stretch/>
        </p:blipFill>
        <p:spPr>
          <a:xfrm>
            <a:off x="2438280" y="2209680"/>
            <a:ext cx="2667240" cy="18259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228600" y="3886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819520" y="40384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8153280" y="2590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181480" y="2590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9"/>
          <a:stretch/>
        </p:blipFill>
        <p:spPr>
          <a:xfrm>
            <a:off x="685800" y="4572000"/>
            <a:ext cx="1860480" cy="190512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380880" y="60199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95480" y="5029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0"/>
          <a:stretch/>
        </p:blipFill>
        <p:spPr>
          <a:xfrm>
            <a:off x="3657600" y="4724280"/>
            <a:ext cx="2209680" cy="166716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3886200" y="60199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095880" y="4952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010280" y="495288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SOI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blinds dir="horz"/>
    <p:sndAc>
      <p:stSnd>
        <p:snd r:embed="rId11" name="explode.wav"/>
      </p:stSnd>
    </p:sndAc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3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3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3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3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7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8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3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3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3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3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3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3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3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" descr="Soil Profile"/>
          <p:cNvPicPr/>
          <p:nvPr/>
        </p:nvPicPr>
        <p:blipFill>
          <a:blip r:embed="rId2"/>
          <a:stretch/>
        </p:blipFill>
        <p:spPr>
          <a:xfrm>
            <a:off x="762120" y="380880"/>
            <a:ext cx="1787400" cy="605808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2895480" y="12193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Tahoma"/>
              </a:rPr>
              <a:t>Topsoi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276720" y="22860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Tahoma"/>
              </a:rPr>
              <a:t>Ground lev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22860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Tahoma"/>
              </a:rPr>
              <a:t>Subsoi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00400" y="5410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Tahoma"/>
              </a:rPr>
              <a:t>Bedroc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2057400" y="609480"/>
            <a:ext cx="99072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2209680" y="5867280"/>
            <a:ext cx="99072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2209680" y="2743200"/>
            <a:ext cx="144792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2209680" y="1447920"/>
            <a:ext cx="99072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2057040" y="2743200"/>
            <a:ext cx="1600200" cy="152388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blinds dir="horz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9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7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77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3" dur="770" fill="hold"/>
                                        <p:tgtEl>
                                          <p:spTgt spid="7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5" dur="77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000"/>
                            </p:stCondLst>
                            <p:childTnLst>
                              <p:par>
                                <p:cTn id="51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000"/>
                            </p:stCondLst>
                            <p:childTnLst>
                              <p:par>
                                <p:cTn id="5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77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0" dur="770" fill="hold"/>
                                        <p:tgtEl>
                                          <p:spTgt spid="7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2" dur="77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000"/>
                            </p:stCondLst>
                            <p:childTnLst>
                              <p:par>
                                <p:cTn id="52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77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770" fill="hold"/>
                                        <p:tgtEl>
                                          <p:spTgt spid="7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1905120" y="1066680"/>
            <a:ext cx="533376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33cc"/>
                </a:solidFill>
                <a:latin typeface="Tahoma"/>
              </a:rPr>
              <a:t>Water Cycle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blinds dir="horz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330033"/>
                </a:solidFill>
                <a:latin typeface="Times New Roman"/>
              </a:rPr>
              <a:t>Steps to the </a:t>
            </a:r>
            <a:br>
              <a:rPr sz="6300"/>
            </a:br>
            <a:r>
              <a:rPr b="0" lang="en-US" sz="6300" spc="-1" strike="noStrike">
                <a:solidFill>
                  <a:srgbClr val="330033"/>
                </a:solidFill>
                <a:latin typeface="Times New Roman"/>
              </a:rPr>
              <a:t>Scientific Method</a:t>
            </a:r>
            <a:endParaRPr b="0" lang="en-US" sz="63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advTm="4000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1066680" y="182880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*The water cycle never stops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066680" y="2971800"/>
            <a:ext cx="6782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*It is driven by the power of the </a:t>
            </a:r>
            <a:r>
              <a:rPr b="0" lang="en-US" sz="8000" spc="-1" strike="noStrike">
                <a:solidFill>
                  <a:srgbClr val="0033cc"/>
                </a:solidFill>
                <a:latin typeface="Tahoma"/>
              </a:rPr>
              <a:t>SUN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4724280" y="3525840"/>
            <a:ext cx="3505320" cy="333216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990720" y="5335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*Water is essential for all living </a:t>
            </a: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things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500"/>
                            </p:stCondLst>
                            <p:childTnLst>
                              <p:par>
                                <p:cTn id="5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7900"/>
                            </p:stCondLst>
                            <p:childTnLst>
                              <p:par>
                                <p:cTn id="5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1700"/>
                            </p:stCondLst>
                            <p:childTnLst>
                              <p:par>
                                <p:cTn id="5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066680" y="68580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There are 4 step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590920" y="175248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0" lang="en-US" sz="4800" spc="-1" strike="noStrike">
                <a:solidFill>
                  <a:srgbClr val="0033cc"/>
                </a:solidFill>
                <a:latin typeface="Tahoma"/>
              </a:rPr>
              <a:t>vaporation</a:t>
            </a: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514600" y="2895480"/>
            <a:ext cx="39625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en-US" sz="4800" spc="-1" strike="noStrike">
                <a:solidFill>
                  <a:srgbClr val="0033cc"/>
                </a:solidFill>
                <a:latin typeface="Tahoma"/>
              </a:rPr>
              <a:t>ondensation</a:t>
            </a: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514600" y="396252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Tahoma"/>
              </a:rPr>
              <a:t>P</a:t>
            </a:r>
            <a:r>
              <a:rPr b="0" lang="en-US" sz="4800" spc="-1" strike="noStrike">
                <a:solidFill>
                  <a:srgbClr val="0033cc"/>
                </a:solidFill>
                <a:latin typeface="Tahoma"/>
              </a:rPr>
              <a:t>recipi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14600" y="4952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en-US" sz="4800" spc="-1" strike="noStrike">
                <a:solidFill>
                  <a:srgbClr val="0033cc"/>
                </a:solidFill>
                <a:latin typeface="Tahoma"/>
              </a:rPr>
              <a:t>oll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438280" y="594360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ahoma"/>
              </a:rPr>
              <a:t>E-C-P-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9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 flipH="1">
            <a:off x="6248160" y="5257800"/>
            <a:ext cx="1679400" cy="117324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3"/>
          <a:stretch/>
        </p:blipFill>
        <p:spPr>
          <a:xfrm>
            <a:off x="4495680" y="5257800"/>
            <a:ext cx="1825920" cy="117324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>
            <a:off x="304920" y="434340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Tahoma"/>
              </a:rPr>
              <a:t>Evaporation</a:t>
            </a: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981080" y="175248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Tahoma"/>
              </a:rPr>
              <a:t>Condensation</a:t>
            </a: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181480" y="388620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Tahoma"/>
              </a:rPr>
              <a:t>Precipi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800600" y="487692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Tahoma"/>
              </a:rPr>
              <a:t>Coll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1066680" y="2971440"/>
            <a:ext cx="0" cy="121932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1371600" y="2971440"/>
            <a:ext cx="0" cy="121932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1676520" y="2971440"/>
            <a:ext cx="0" cy="121932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4"/>
          <a:stretch/>
        </p:blipFill>
        <p:spPr>
          <a:xfrm>
            <a:off x="2362320" y="762120"/>
            <a:ext cx="1842840" cy="121284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5"/>
          <a:stretch/>
        </p:blipFill>
        <p:spPr>
          <a:xfrm>
            <a:off x="6019920" y="1295280"/>
            <a:ext cx="2063520" cy="263376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6"/>
          <a:stretch/>
        </p:blipFill>
        <p:spPr>
          <a:xfrm>
            <a:off x="7696080" y="1905120"/>
            <a:ext cx="970200" cy="179208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7"/>
          <a:stretch/>
        </p:blipFill>
        <p:spPr>
          <a:xfrm>
            <a:off x="990720" y="5257800"/>
            <a:ext cx="1825560" cy="117324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8"/>
          <a:stretch/>
        </p:blipFill>
        <p:spPr>
          <a:xfrm flipH="1">
            <a:off x="2742840" y="5257800"/>
            <a:ext cx="1832040" cy="1173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838080" y="304920"/>
            <a:ext cx="769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Ques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914400" y="129528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Hypothe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914400" y="228600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Experime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914400" y="320040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Observ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914400" y="419112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838080" y="304920"/>
            <a:ext cx="769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ues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914400" y="129528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pothe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914400" y="228600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xperime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914400" y="320040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bserv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914400" y="419112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onclus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066680" y="533412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iet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ppos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t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ly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rot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" descr="Hippopotamus clip art"/>
          <p:cNvPicPr/>
          <p:nvPr/>
        </p:nvPicPr>
        <p:blipFill>
          <a:blip r:embed="rId1"/>
          <a:stretch/>
        </p:blipFill>
        <p:spPr>
          <a:xfrm>
            <a:off x="-1371600" y="4800600"/>
            <a:ext cx="1371600" cy="87804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8077320" y="4800600"/>
            <a:ext cx="715680" cy="541440"/>
          </a:xfrm>
          <a:prstGeom prst="rect">
            <a:avLst/>
          </a:prstGeom>
          <a:ln w="0">
            <a:noFill/>
          </a:ln>
        </p:spPr>
      </p:pic>
    </p:spTree>
  </p:cSld>
  <p:transition advTm="9000">
    <p:blinds dir="horz"/>
    <p:sndAc>
      <p:stSnd>
        <p:snd r:embed="rId3" name="whoosh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5.55556E-006 C 0.00521 -0.00348 0.01146 -0.00417 0.01598 -0.00903 C 0.01806 -0.01135 0.01823 -0.01598 0.02049 -0.01806 C 0.02309 -0.02038 0.02657 -0.01991 0.02969 -0.02107 C 0.05018 -0.02894 0.05695 -0.03079 0.08177 -0.03334 C 0.09618 -0.03241 0.11077 -0.03311 0.125 -0.03033 C 0.12709 -0.02987 0.12743 -0.02524 0.12952 -0.02408 C 0.1375 -0.01968 0.14636 -0.01876 0.15452 -0.01505 C 0.16424 -0.00255 0.18056 0.00023 0.19323 0.00601 C 0.20677 0.01226 0.19323 0.00624 0.20677 0.01226 C 0.20903 0.01319 0.21372 0.01527 0.21372 0.01527 C 0.23872 0.01435 0.26372 0.01481 0.28872 0.01226 C 0.30382 0.01064 0.29879 0.00601 0.30921 -5.55556E-006 C 0.3198 -0.00626 0.32987 -0.00834 0.34098 -0.01204 C 0.34931 -0.01482 0.35764 -0.01899 0.36598 -0.02107 C 0.37657 -0.02362 0.39775 -0.02732 0.39775 -0.02732 C 0.41476 -0.02501 0.42691 -0.02153 0.44323 -0.01806 C 0.45313 -0.01366 0.46268 -0.0095 0.47275 -0.00602 C 0.49618 0.01481 0.52969 0.0162 0.55677 0.02129 C 0.57431 0.02036 0.59167 0.0199 0.60921 0.01828 C 0.62709 0.01666 0.6441 0.00555 0.66146 -5.55556E-006 C 0.67448 -0.00857 0.6882 -0.01343 0.70226 -0.01806 C 0.73056 -0.0426 0.7632 -0.04584 0.79549 -0.0544 C 0.81511 -0.05348 0.8349 -0.05325 0.85452 -0.05139 C 0.86615 -0.05024 0.87743 -0.04005 0.88872 -0.03635 C 0.89098 -0.03426 0.89306 -0.03195 0.89549 -0.03033 C 0.89757 -0.02894 0.90018 -0.02894 0.90226 -0.02732 C 0.90417 -0.0257 0.90487 -0.02246 0.90677 -0.02107 C 0.90886 -0.01945 0.91372 -0.01806 0.91372 -0.01806 E">
                                      <p:cBhvr>
                                        <p:cTn id="90" dur="3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914400" y="838080"/>
            <a:ext cx="69343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Six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Simple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Machine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914400" y="83808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Lever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2438280" cy="15015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2"/>
          <a:stretch/>
        </p:blipFill>
        <p:spPr>
          <a:xfrm rot="2406000">
            <a:off x="6324480" y="2057400"/>
            <a:ext cx="2514600" cy="102384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Lever"/>
          <p:cNvPicPr/>
          <p:nvPr/>
        </p:nvPicPr>
        <p:blipFill>
          <a:blip r:embed="rId3"/>
          <a:stretch/>
        </p:blipFill>
        <p:spPr>
          <a:xfrm>
            <a:off x="2895480" y="2971800"/>
            <a:ext cx="3886200" cy="183672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2057400" y="5029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traight rod or board that pivots on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ulc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4"/>
          <a:stretch/>
        </p:blipFill>
        <p:spPr>
          <a:xfrm>
            <a:off x="685800" y="3352680"/>
            <a:ext cx="1598760" cy="159876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  <p:sndAc>
      <p:stSnd>
        <p:snd r:embed="rId5" name="hammer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914400" y="83808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Pulle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" descr="Pulley"/>
          <p:cNvPicPr/>
          <p:nvPr/>
        </p:nvPicPr>
        <p:blipFill>
          <a:blip r:embed="rId1"/>
          <a:stretch/>
        </p:blipFill>
        <p:spPr>
          <a:xfrm>
            <a:off x="3962520" y="2209680"/>
            <a:ext cx="1600200" cy="322920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1523880" y="52578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el with a rope used to pull load up or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6629400" y="1066680"/>
            <a:ext cx="1684440" cy="3571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457200" y="2133720"/>
            <a:ext cx="2217600" cy="2274840"/>
          </a:xfrm>
          <a:prstGeom prst="rect">
            <a:avLst/>
          </a:prstGeom>
          <a:ln w="0">
            <a:noFill/>
          </a:ln>
        </p:spPr>
      </p:pic>
    </p:spTree>
  </p:cSld>
  <p:transition advTm="9000"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533520" y="762120"/>
            <a:ext cx="822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Inclined Plan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193212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Inclined Plane"/>
          <p:cNvPicPr/>
          <p:nvPr/>
        </p:nvPicPr>
        <p:blipFill>
          <a:blip r:embed="rId2"/>
          <a:stretch/>
        </p:blipFill>
        <p:spPr>
          <a:xfrm>
            <a:off x="2743200" y="2819520"/>
            <a:ext cx="3267000" cy="129672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3"/>
          <a:stretch/>
        </p:blipFill>
        <p:spPr>
          <a:xfrm>
            <a:off x="0" y="2362320"/>
            <a:ext cx="2514600" cy="196344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1143000" y="4952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sloping surface, such as a ram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000">
    <p:split dir="in" orient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914400" y="83808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Wedg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6781680" y="1066680"/>
            <a:ext cx="1782720" cy="230508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 rot="2898000">
            <a:off x="468360" y="1131840"/>
            <a:ext cx="1870200" cy="28065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Wedge"/>
          <p:cNvPicPr/>
          <p:nvPr/>
        </p:nvPicPr>
        <p:blipFill>
          <a:blip r:embed="rId3"/>
          <a:stretch/>
        </p:blipFill>
        <p:spPr>
          <a:xfrm>
            <a:off x="3581280" y="2286000"/>
            <a:ext cx="1590840" cy="277668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133720" y="525780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wo inclined planes joined back to back-used to c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000">
    <p:blinds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8:27:01Z</dcterms:created>
  <dc:creator>cfleming</dc:creator>
  <dc:description/>
  <dc:language>en-US</dc:language>
  <cp:lastModifiedBy>Donna Gilliam</cp:lastModifiedBy>
  <dcterms:modified xsi:type="dcterms:W3CDTF">2006-03-01T23:06:59Z</dcterms:modified>
  <cp:revision>10</cp:revision>
  <dc:subject/>
  <dc:title>Science </dc:title>
</cp:coreProperties>
</file>